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FF881-9E81-4BE6-987E-68FCC3E3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6F83E5-1F21-47DB-9457-19449487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BA489E-3C45-4AB6-B38A-42F6748B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7AAE54-8EB1-4D8A-940C-CEE7BF6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164F1C-0B10-4780-83BB-90010ECD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1C8B28-8BBD-4B3D-8431-7285F06F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24F62-6699-4E3D-AA93-16AA51AB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64B565-7FD5-49BF-9501-BC98A236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7DF6A1-63F0-4ADD-AB8B-DDC12FE9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9EE25-1CBE-4812-AC5A-11A9E962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BDFBE-ECFB-40E9-AB69-489279E0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A354B-C5DA-4473-8988-121DFA7A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94019-8879-4073-BE0B-C9C41564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C6599-9C96-478B-8143-2BF1E08D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354B3-B90C-4F34-8D50-68BBDCB5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35916-6632-419A-9164-4391DBA6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DE34C-34FD-4520-9927-F32FB74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ACF90-D89E-4776-89CD-F355228A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AB76B-CC8A-4C36-959C-668C33A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F1ABA-F69E-455C-A843-458E8C8C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44D70-F710-4B0C-B40E-D65B6DFD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E674E-1707-482C-B751-16636874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F2A8C-A6E7-46D0-B376-912EF79B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C7250-0DB4-4892-89E6-6E4A635B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25E78-EFFF-4DA2-8E33-E6A7CF31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A0213-0EA8-4DE4-9F1E-8419FD83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863F0-A41C-4938-9BAA-8346725C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2F30A-FAC4-44C8-8C7C-034B5A6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4D107-56AD-4074-9237-B90B648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30FED-BE2C-4492-8C9D-18400673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99D88-6A73-4AA3-A904-D418BAA7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8C060-9D4A-4D97-B531-8D20ACF7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B63E3-897C-4311-B56B-4EE970DC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7A654-D615-47B9-8925-6F96E761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C225C-5122-4666-A5CE-107CCC03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B8449-9B0B-4364-94A8-E9A2C395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650F5-004F-4518-BAAA-50A1B1BF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347E6-FFF1-4323-A68B-4FD30AE8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36A05-1B15-4F11-88B0-ABDB80D6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F0E60-9750-4837-B907-6AACD8E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F3CC7-FC4B-490D-BCC0-0AF6EDD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A4145-F9E2-44A3-A524-61C7976A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4FCFEF-C17C-4D5E-B375-633929F3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9D8A7-8107-4706-8B0A-A0700DE6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8C370-328F-4EED-8AAA-0B55BA30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DEBDA-E41B-4CA1-95E8-78863B6C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DC7CA-F108-40CF-999B-AEBF5099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5D5BB-B97B-4753-A731-2D5EB8C8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94E90-8C85-406F-A445-FECEEC93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A4F84-E4A0-4796-9162-2A7E9CDD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A0087-DE24-4FAB-926E-EE548B35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C8672-AF94-48AD-B0A6-8520998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FE2BC-D712-4433-AA98-1F8DC560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FAE71-38D8-4815-868C-97EFAEE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09DE9-3A0A-49B9-95D4-2F6EBA92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F61DD-5E75-458C-94DE-CB939A50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1EBA8-5663-40CC-8F43-D288BF4A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6E9E4-8AA5-4046-B439-DC883357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C67AB-F7D9-4FF4-9A84-595DA6C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4D88B-135E-497A-8EF4-4D2930E7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DB1C4-5650-40AB-B975-8903B84D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89023-F1BD-498B-89EB-326731AB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3BF44-F7A5-4460-8CE8-34502CCB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ACAF2-0AA7-4DB5-9DD5-2A49CC0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A28C4-0779-42DF-907D-DCF654BA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B8091-1B55-42D4-8925-7B28862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B7072-5D76-4D61-8F1F-365CE6DA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7C2B6-0F34-45F3-8301-8FF46731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26306-9262-405F-9C47-2C308CEA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8FB95-C6D0-4506-8599-D77A6DC8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67BF5-0CC0-45CE-85D1-1DB5FAFE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9B387F-B441-41AA-B072-20756C86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09699-00ED-4B5E-96E7-224037CC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E15CC2-A8C4-44B2-B5C5-A38100DA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5DB10-34B0-4882-88D3-2D48E96B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227B2-3128-48E6-B7BD-0628EF15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DBB6E-4377-4636-8217-DFA691E5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2348C-6B12-4CA9-830E-565B44E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A0BBD-1DCB-4B3F-840C-D42AC1C6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E55F2-F52F-4598-8F8C-09DD3F17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21C81-6FBB-4E02-B924-29C6D418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7EC42-EEBB-44BE-BCA1-E5D31FBB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FB95B0-0516-43BB-9C79-05B4DD60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14DD4-F3E1-4B38-B41E-69A0792B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5A6020-A6FB-4966-854C-F322A280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28AF7A-5DAA-4B24-A549-C21B235B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F0D68-6DB2-4E68-B27B-1B829210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AD2CC-5085-4CC8-AAA5-AD422D65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99F9A-AD3C-4606-8D43-BA6E8C0A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D83FC-B8AA-4531-8358-497717A3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36847-C16C-48AC-A3B4-733F13CA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F5933-B1EC-46CB-A7DB-F7A328AB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39FACF-A0EF-4123-9010-CEB7DB9B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569FE3-FA5A-4B60-BE74-FAE07F0E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B7DB78-D198-4C80-AA8F-55F39BB6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6954F3-0137-450E-B1DF-DC34BEFA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25E0-01C7-4110-B8DE-A1AE038856B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C356-B7DF-421F-ABFB-215C2EE3BA79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8D3-DDFA-4F8E-862B-60EB93F6ED41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A340-D794-4D30-BD16-2F1E8D886D1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845-4282-403E-9E9B-A37A9031270E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6EC4-E15E-4EA9-8120-F71DB1AE661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3E29-4953-4BE9-A342-4D52479282B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4D8E-A1E5-414F-8C36-32FB4AB33F8E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mero Brit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mero Brit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ero Britto is a Brazilian arti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art uses elements of cubism, pop art, and graffiti paint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uses vibrant colours and bold patterns to express hope, dreams, and happine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7164360" y="4292640"/>
            <a:ext cx="11811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dn.shopify.com/s/files/1/0434/8480/7325/produc..."/>
          <p:cNvPicPr/>
          <p:nvPr/>
        </p:nvPicPr>
        <p:blipFill>
          <a:blip r:embed="rId1"/>
          <a:stretch/>
        </p:blipFill>
        <p:spPr>
          <a:xfrm>
            <a:off x="790560" y="549360"/>
            <a:ext cx="3781440" cy="53719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1"/>
          <p:cNvSpPr/>
          <p:nvPr/>
        </p:nvSpPr>
        <p:spPr>
          <a:xfrm>
            <a:off x="5003640" y="1413000"/>
            <a:ext cx="331344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ona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156"/>
                </a:solidFill>
                <a:latin typeface="Comic Sans MS"/>
                <a:ea typeface="Arial"/>
              </a:rPr>
              <a:t>Britto's '</a:t>
            </a:r>
            <a:r>
              <a:rPr b="1" lang="en-US" sz="1800" spc="-1" strike="noStrike">
                <a:solidFill>
                  <a:srgbClr val="5f6368"/>
                </a:solidFill>
                <a:latin typeface="Comic Sans MS"/>
                <a:ea typeface="Arial"/>
              </a:rPr>
              <a:t>Mona Cat</a:t>
            </a:r>
            <a:r>
              <a:rPr b="0" lang="en-US" sz="1800" spc="-1" strike="noStrike">
                <a:solidFill>
                  <a:srgbClr val="4d5156"/>
                </a:solidFill>
                <a:latin typeface="Comic Sans MS"/>
                <a:ea typeface="Arial"/>
              </a:rPr>
              <a:t>' is a painting of a cat dressed in the same Renaissance attire as the Mona Lisa and in the same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undefined"/>
          <p:cNvPicPr/>
          <p:nvPr/>
        </p:nvPicPr>
        <p:blipFill>
          <a:blip r:embed="rId2"/>
          <a:stretch/>
        </p:blipFill>
        <p:spPr>
          <a:xfrm>
            <a:off x="6012000" y="3411360"/>
            <a:ext cx="16729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Britto Garden, 2000 - Romero Britto - WikiArt.org"/>
          <p:cNvPicPr/>
          <p:nvPr/>
        </p:nvPicPr>
        <p:blipFill>
          <a:blip r:embed="rId1"/>
          <a:stretch/>
        </p:blipFill>
        <p:spPr>
          <a:xfrm>
            <a:off x="1309680" y="714240"/>
            <a:ext cx="6524640" cy="54295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"/>
          <p:cNvSpPr/>
          <p:nvPr/>
        </p:nvSpPr>
        <p:spPr>
          <a:xfrm>
            <a:off x="250920" y="189000"/>
            <a:ext cx="165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Garden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i.pinimg.com/originals/0a/b5/0d/0ab50d86e811317..."/>
          <p:cNvPicPr/>
          <p:nvPr/>
        </p:nvPicPr>
        <p:blipFill>
          <a:blip r:embed="rId1"/>
          <a:stretch/>
        </p:blipFill>
        <p:spPr>
          <a:xfrm>
            <a:off x="500040" y="623880"/>
            <a:ext cx="8143920" cy="5610240"/>
          </a:xfrm>
          <a:prstGeom prst="rect">
            <a:avLst/>
          </a:prstGeom>
          <a:ln w="0">
            <a:noFill/>
          </a:ln>
        </p:spPr>
      </p:pic>
      <p:sp>
        <p:nvSpPr>
          <p:cNvPr id="387" name="TextBox 1"/>
          <p:cNvSpPr/>
          <p:nvPr/>
        </p:nvSpPr>
        <p:spPr>
          <a:xfrm>
            <a:off x="250920" y="189000"/>
            <a:ext cx="252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avolo cavalo 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Artist Romero Britto makes a career out of happiness"/>
          <p:cNvPicPr/>
          <p:nvPr/>
        </p:nvPicPr>
        <p:blipFill>
          <a:blip r:embed="rId1"/>
          <a:stretch/>
        </p:blipFill>
        <p:spPr>
          <a:xfrm>
            <a:off x="1986120" y="493560"/>
            <a:ext cx="5171760" cy="291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809640" y="3573360"/>
            <a:ext cx="7524720" cy="291492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"/>
          <p:cNvSpPr/>
          <p:nvPr/>
        </p:nvSpPr>
        <p:spPr>
          <a:xfrm>
            <a:off x="108000" y="836640"/>
            <a:ext cx="176364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et’s look closely at these f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do you no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create a self-portrait using techniques used by Romero Britto. To do this you need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bright colou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bold patt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raw large simple sha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ll the whole piece of pap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462040" y="1319040"/>
            <a:ext cx="421992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0:27:10Z</dcterms:created>
  <dc:creator>Anne</dc:creator>
  <dc:description/>
  <dc:language>en-US</dc:language>
  <cp:lastModifiedBy>anne.pillar@gmail.com</cp:lastModifiedBy>
  <dcterms:modified xsi:type="dcterms:W3CDTF">2023-05-17T13:32:25Z</dcterms:modified>
  <cp:revision>12</cp:revision>
  <dc:subject/>
  <dc:title>Slide 1</dc:title>
</cp:coreProperties>
</file>